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0B4-59DE-4464-B780-E309876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C7E-73E7-4ED1-B48B-CB8D0256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4DF-CA7E-460A-A9AA-A53EDC16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30C-B708-4950-AA9D-6C57DB36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A08-0F81-4E63-B7FA-DC355ED4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1A4-F6C9-4EBA-9125-BDC10DF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A50-A2B0-4297-B598-69B1E62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7E4-1F42-440A-B424-9113A6D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1CE-BEB7-4B7D-8FBB-DC671CB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99B-2AFC-4B09-A299-5A3AE585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3CB-1394-40ED-B5AE-B811ACB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F54-432B-4FA6-86D8-58F3B4B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3E2-3281-4441-A548-A16C53E2738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解   崔灝    黃鶴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lson Sh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07/10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黃鶴樓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崔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昔人已乘黃鶴去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此地空餘黃鶴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鶴一去不復返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白雲千載空悠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晴川歷歷漢陽樹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芳草萋萋鸚鵡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前四句不難領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昔人已乘黃鶴去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此地空餘黃鶴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鶴一去不復返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白雲千載空悠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後四句如何解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晴川歷歷漢陽樹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芳草萋萋鸚鵡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親臨黃鶴樓就不難領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或是看地圖與解說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7143" t="7298" r="12143" b="19747"/>
          <a:stretch/>
        </p:blipFill>
        <p:spPr>
          <a:xfrm>
            <a:off x="1071720" y="428760"/>
            <a:ext cx="7826040" cy="5929200"/>
          </a:xfrm>
          <a:prstGeom prst="rect">
            <a:avLst/>
          </a:prstGeom>
          <a:ln w="0">
            <a:noFill/>
          </a:ln>
        </p:spPr>
      </p:pic>
      <p:sp>
        <p:nvSpPr>
          <p:cNvPr id="50" name="橢圓形圖說文字 2"/>
          <p:cNvSpPr/>
          <p:nvPr/>
        </p:nvSpPr>
        <p:spPr>
          <a:xfrm>
            <a:off x="6500880" y="4643280"/>
            <a:ext cx="1428840" cy="571680"/>
          </a:xfrm>
          <a:prstGeom prst="wedgeEllipseCallout">
            <a:avLst>
              <a:gd name="adj1" fmla="val -79611"/>
              <a:gd name="adj2" fmla="val 9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黃鶴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流程圖: 替代處理程序 3" descr=""/>
          <p:cNvPicPr/>
          <p:nvPr/>
        </p:nvPicPr>
        <p:blipFill>
          <a:blip r:embed="rId2"/>
          <a:stretch/>
        </p:blipFill>
        <p:spPr>
          <a:xfrm>
            <a:off x="4267080" y="5553000"/>
            <a:ext cx="139536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流程圖: 替代處理程序 4" descr=""/>
          <p:cNvPicPr/>
          <p:nvPr/>
        </p:nvPicPr>
        <p:blipFill>
          <a:blip r:embed="rId3"/>
          <a:stretch/>
        </p:blipFill>
        <p:spPr>
          <a:xfrm>
            <a:off x="1554120" y="695160"/>
            <a:ext cx="13906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流程圖: 替代處理程序 5" descr=""/>
          <p:cNvPicPr/>
          <p:nvPr/>
        </p:nvPicPr>
        <p:blipFill>
          <a:blip r:embed="rId4"/>
          <a:stretch/>
        </p:blipFill>
        <p:spPr>
          <a:xfrm>
            <a:off x="7126200" y="622440"/>
            <a:ext cx="139536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橢圓形圖說文字 6"/>
          <p:cNvSpPr/>
          <p:nvPr/>
        </p:nvSpPr>
        <p:spPr>
          <a:xfrm>
            <a:off x="6786720" y="5286240"/>
            <a:ext cx="1428480" cy="571680"/>
          </a:xfrm>
          <a:prstGeom prst="wedgeEllipseCallout">
            <a:avLst>
              <a:gd name="adj1" fmla="val -79611"/>
              <a:gd name="adj2" fmla="val 9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蛇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橢圓形圖說文字 7"/>
          <p:cNvSpPr/>
          <p:nvPr/>
        </p:nvSpPr>
        <p:spPr>
          <a:xfrm>
            <a:off x="4143240" y="1785960"/>
            <a:ext cx="1428840" cy="571320"/>
          </a:xfrm>
          <a:prstGeom prst="wedgeEllipseCallout">
            <a:avLst>
              <a:gd name="adj1" fmla="val 61722"/>
              <a:gd name="adj2" fmla="val 87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龜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橢圓形圖說文字 8"/>
          <p:cNvSpPr/>
          <p:nvPr/>
        </p:nvSpPr>
        <p:spPr>
          <a:xfrm>
            <a:off x="2700360" y="2997360"/>
            <a:ext cx="1428840" cy="571320"/>
          </a:xfrm>
          <a:prstGeom prst="wedgeEllipseCallout">
            <a:avLst>
              <a:gd name="adj1" fmla="val 59333"/>
              <a:gd name="adj2" fmla="val 9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鸚鵡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形圖說文字 9"/>
          <p:cNvSpPr/>
          <p:nvPr/>
        </p:nvSpPr>
        <p:spPr>
          <a:xfrm>
            <a:off x="3929040" y="785880"/>
            <a:ext cx="1428840" cy="571320"/>
          </a:xfrm>
          <a:prstGeom prst="wedgeEllipseCallout">
            <a:avLst>
              <a:gd name="adj1" fmla="val 94384"/>
              <a:gd name="adj2" fmla="val 8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漢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形圖說文字 10"/>
          <p:cNvSpPr/>
          <p:nvPr/>
        </p:nvSpPr>
        <p:spPr>
          <a:xfrm>
            <a:off x="1357200" y="4214880"/>
            <a:ext cx="1428840" cy="571320"/>
          </a:xfrm>
          <a:prstGeom prst="wedgeEllipseCallout">
            <a:avLst>
              <a:gd name="adj1" fmla="val 79050"/>
              <a:gd name="adj2" fmla="val 5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長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晴川歷歷漢陽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440" y="285840"/>
            <a:ext cx="601956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武漢市，以前為武漢三鎮，分別為武昌、漢口、漢陽三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黃鶴樓座落於武昌城的蛇山前端山頂，面向長江，蛇山尾端山腳即為武昌起義紀念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樓的對岸是漢陽城的龜山，古云，蛇龜相望，形容地勢。現龜山上有一電視發射塔，相當醒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解云：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長江天氣晴朗時，可以遠眺對岸漢陽龜山上的樹，歷歷在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芳草萋萋鸚鵡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樓的對岸往長江上游望去不遠處，古時有一沙洲，名為鸚鵡洲。現已消失隱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解云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接上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連對岸鸚鵡洲上的嫩草，綠意盎然，都清晰可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昏日落西沉，遙望對岸遠方的故鄉，好似布幕降下而關閉了，尋尋覓覓不知在何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長江上昇起了一陣陣的霧氣，勾起了思鄉之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懂了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3:31:27Z</dcterms:created>
  <dc:creator>Nelson Shih</dc:creator>
  <dc:description/>
  <dc:language>en-US</dc:language>
  <cp:lastModifiedBy>Nelson</cp:lastModifiedBy>
  <dcterms:modified xsi:type="dcterms:W3CDTF">2007-10-23T15:12:51Z</dcterms:modified>
  <cp:revision>23</cp:revision>
  <dc:subject/>
  <dc:title>投影片 1</dc:title>
</cp:coreProperties>
</file>